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16.png" ContentType="image/png"/>
  <Override PartName="/ppt/media/image15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F162-BA21-4FDA-811E-65239675C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5554-56C3-47E9-9E80-65B8777F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493A-8490-4715-9376-E5FF49977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2F55-CD78-44BB-82D6-753CF1DF9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DFA9-197A-47F8-87E0-312B3A73A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C666-AF7D-42D9-B15F-1BA01468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C0DF-D96F-4659-966A-88E7733E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CCF7-3BF7-4170-AF2A-FB934A0E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B0A1-F109-424A-AF17-9FDB7F2D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37F9-EEFF-44E5-8FFA-252DFDFF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20EA-D45A-42F8-8939-05A95FB2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732C-29C3-4FD3-B1DA-C67179DA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3AAA-F3F7-4757-8C99-9688EC0E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53A7-7CDE-4542-ADF0-BA7D1376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4510-3B7B-431E-8125-E88EBA44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2811-B85A-4F80-8822-46E524BD4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E027-4CE2-4136-A2E1-06CDAD43B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98DA69-708B-4F3E-B8F1-F4A21F39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7F3FFB-4A99-41E3-A3EF-0F3DD525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A72D0E-D4A8-4E8E-851A-8A2A7E2D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6F9CAF-6675-484D-A072-4DA44E84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2D71A7-9C6A-47CA-8927-7B9B909C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BA54-88BC-469B-BC0B-4CE64A47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D35078-3579-4360-8D60-DA495CE5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734C99-BF01-472C-A02E-9C8C9010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D27892-B114-49B0-A967-63F2813D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92FCE1-AF3E-4A61-97DA-7497550B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D012F1-A0D7-48B8-9568-C309E548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E1BF84-F972-467B-B812-C45E4B7A7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6C9F0C-D87C-4720-A872-C167E4168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BD48EB-A06E-4749-A996-806C5B3C8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062C47-60CC-4FB8-B788-7DDDCF22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F17558-6498-4582-B086-D440C258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B152-2B22-4865-B0EA-E9B09546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929671-8809-46C0-BBB2-21AEBD31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F84F78-2997-4BE1-BC3F-5B9E75B8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AA6BA0-1DAC-48F6-83F7-81677B7F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89E59D-F1C0-4EC1-A45D-1516A98E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DA7C15-38EC-414F-913C-561B398C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8FBADE-4736-4416-A7B1-CCE05FE5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E99AC3-9B25-4114-BAA4-0D96228A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1BA2A0-C23E-4243-8AA9-C32EEF015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80EE0B-8428-4FDD-A347-68745B197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75A5E5-D3C2-48E3-B46B-ABA6F921C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A226-E1AC-47D7-B113-8A4D507C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B8A2AA-921C-493C-B3B4-DA6228C1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AA22B6-F78D-4C12-9147-24659891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CFFE09-85E7-4BBC-A5AC-CBDCDE60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783BD4-1E36-43BA-9712-D0BF4059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B27F23-A0F0-4B65-8CCD-4950CBEE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4EC0FA-E79E-418F-86B1-EA0579A1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C11B80-B0AB-4A0B-952E-5745FFA7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699A05-2B01-425B-9037-ECAF4771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2B44D8-CB62-4899-ADF5-879FD142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518D52-8B96-4228-8546-4FAFCB4ED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062D-4644-4055-B205-F308B9DA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2B8C60-C254-4ADD-B141-4048FBC24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DA0C5-DFF3-4C80-8994-63AD36C55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FEA2F-388E-4E2E-943E-9DD17893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497F6-A97D-48F8-BB48-32B5B645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26E8F-B21C-4724-9746-8D75B6B2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80B36-FCE2-475F-A901-8F714586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0339B-1313-487C-8FB5-AFC011F7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9F68E-1060-43BE-9D4E-11AF47A5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37DC8-953F-4A10-9A6A-D3706FBA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AE27E-420B-4894-88B4-D74FFA7D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8701-58C9-4DF5-A715-A33EE745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EF4B8-0BB2-4013-A7B3-F0EC05C3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E2694-F94B-4A9C-8707-6A31640BA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D47F1-739A-424D-9ADC-10EAB64DB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51FCD2-1A0B-476B-BC8C-F3F72E2E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92030C-C525-4E0C-8B61-9D3AD706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68E07C-5B27-495F-B142-41763761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AF6E61-8F4D-4923-B08D-B831CFF7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AA5A52-F74A-4710-9760-E9DBAF56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21048A-63AB-44E1-812A-EBA5942B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5342FF-AEC8-40DB-A1C4-7CD87381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ABF4-D2DE-4F53-B1E7-AE5B76ED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5829C0-80E4-48ED-ADF3-002E0FAD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C021AA-EB60-4D2B-8304-BBE1059D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9C3C48-01FA-4722-ACEE-8C790747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ACAFBC-1CA9-46F0-B3B3-05E40B7D4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EE71D8-785A-4C1C-948C-2B972FB81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F51C4-9A55-4CB3-86E4-651A6456C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D8612-96D3-40C6-82DF-012E0EEC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33791-4774-4918-9486-491D1ABE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53BC7-8506-410F-87FB-41916430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D906F-9F33-4B56-94A0-5F195550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DD88-30BD-4FA6-9686-57D8EC63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BBEFB-271E-47EA-9E6B-2431B568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32525-FADA-4877-8664-C544F37D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FFA26-8C77-45E2-9EB0-106EB2C1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D186E-E0FD-405D-9FA1-338CF72F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801A2-25E7-4E2F-9502-FC182D10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5A38F-52AF-4158-AC69-183540F86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3AB72-5038-4BA4-AD9B-D10611F77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A9D5-948C-4213-BAA1-C62CC8EE2DD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6 Rectángulo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9 Rectángulo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10 Rectángulo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72E5-1EFD-44B7-A701-0225FB7A03C2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6 Rectángulo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7 Rectángulo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8 Rectángulo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2D72-3F28-471C-AF07-26A80AB795F8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D5E5-957F-490B-9E7B-AA1B1BCB332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CF04-A4E1-4D39-B9B3-7D509AEF380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16D3-4D2B-4B00-9F13-036DDEA3D8B1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7 Rectángulo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8 Rectángulo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9 Rectángulo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10 Rectángulo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7E57-C8F6-447A-BD32-E58AA37F526B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6 Rectángulo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7 Rectángulo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8 Rectángulo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31A3-8141-4E77-A677-4D07A2C579D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dc3"/>
                </a:solidFill>
                <a:latin typeface="Tw Cen MT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ebddc3"/>
                </a:solidFill>
                <a:latin typeface="Tw Cen MT"/>
              </a:rPr>
              <a:t>MOVIMIENTO DE LOS NO ALINEADOS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Motivos de China para unirse al MNA…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2205000"/>
            <a:ext cx="815328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90160" indent="-29016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Evitar ser dominada por la URSS o por E.U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Quería presentarse como líder de los recién liberados estados ex-coloniale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Este movimiento podía acomodarse a su forma de presentar el Marxismo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336840" y="1379520"/>
            <a:ext cx="5556240" cy="53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12480" indent="-31248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a primera conferencia de estados no-alineados se llevó a cabo en Bandung, Indonesia, en 1955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a conferencia fue iniciada por Tito y luego apoyada por Nehru y Zhou En-la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bjetivo: incrementar la membrecía del bloque independiente fomentando la neutralidad en la Guerra Frí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9" name="Picture 2" descr="http://www.freewebs.com/abdolrashidi/abdolrashidi%20&amp;%20nam.jpg"/>
          <p:cNvPicPr/>
          <p:nvPr/>
        </p:nvPicPr>
        <p:blipFill>
          <a:blip r:embed="rId1"/>
          <a:stretch/>
        </p:blipFill>
        <p:spPr>
          <a:xfrm>
            <a:off x="150840" y="1728720"/>
            <a:ext cx="3052800" cy="43642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Nasser, MNA y la Guerra Frí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ntre los que asistieron a la conferencia en Bandung, se encontraba el general Nasser, de Egipt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mpresionado por los puntos de vista, Nasser decidió adoptar la postura neutral en la Guerra Frí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2" name="Picture 2" descr="http://euro-synergies.hautetfort.com/media/01/02/2075761758.jpg"/>
          <p:cNvPicPr/>
          <p:nvPr/>
        </p:nvPicPr>
        <p:blipFill>
          <a:blip r:embed="rId1"/>
          <a:stretch/>
        </p:blipFill>
        <p:spPr>
          <a:xfrm rot="20482200">
            <a:off x="3516120" y="4052520"/>
            <a:ext cx="2806560" cy="2421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guiendo la filosofía no-alineada de ‘cortejar’ a las superpotencias, Nasser desató una crisis en el oriente medio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Nasser pidió apoyo económico a los Estados Unidos, pero compró armas en la Unión Soviética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on la crisis de Suez, Nasser logró equilibrar a ambas superpotencias y salir como ganador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asser humilló a las potencias en la crisis del Canal de Suez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espués de la crisis, logró quedarse con el canal y convertirse en el líder del nacionalismo Árab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7" name="Picture 2" descr="http://www.portalplanetasedna.com.ar/archivos_varios/suez01.jpg"/>
          <p:cNvPicPr/>
          <p:nvPr/>
        </p:nvPicPr>
        <p:blipFill>
          <a:blip r:embed="rId1"/>
          <a:stretch/>
        </p:blipFill>
        <p:spPr>
          <a:xfrm>
            <a:off x="3255840" y="3621240"/>
            <a:ext cx="3102120" cy="307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11280" y="198864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l Movimiento No-Alineado tuvo dos logros principal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emostró que las superpotencias no siempre pueden manipular a los países más pequeño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emostró que las superpotencias no obtienen siempre lo que quiere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a Guerra Fría y el MN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53" name="Picture 2" descr="http://4.bp.blogspot.com/-o8p98kenSxE/Tt39l_UJCCI/AAAAAAAAAGY/WEI_6pkS2Cc/s1600/yugoslavia.png"/>
          <p:cNvPicPr/>
          <p:nvPr/>
        </p:nvPicPr>
        <p:blipFill>
          <a:blip r:embed="rId1"/>
          <a:stretch/>
        </p:blipFill>
        <p:spPr>
          <a:xfrm>
            <a:off x="684360" y="2060640"/>
            <a:ext cx="3257280" cy="2857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54" name="4 CuadroTexto"/>
          <p:cNvSpPr/>
          <p:nvPr/>
        </p:nvSpPr>
        <p:spPr>
          <a:xfrm>
            <a:off x="5219640" y="1700280"/>
            <a:ext cx="3313080" cy="2654280"/>
          </a:xfrm>
          <a:prstGeom prst="rect">
            <a:avLst/>
          </a:prstGeom>
          <a:solidFill>
            <a:srgbClr val="ffffff"/>
          </a:solidFill>
          <a:ln w="1908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espues de la Guerra, Yugoslavia estaba dedicada al Comunismo bajo el mando de Marshal Tit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5 CuadroTexto"/>
          <p:cNvSpPr/>
          <p:nvPr/>
        </p:nvSpPr>
        <p:spPr>
          <a:xfrm>
            <a:off x="4427640" y="4508640"/>
            <a:ext cx="3960720" cy="228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7ba7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Yugoslavia había estado luchando por soberanía, lo cual los guió a una ruptura de relaciones con Stalin en 1948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539640" y="3499920"/>
            <a:ext cx="4546800" cy="2986200"/>
          </a:xfrm>
          <a:prstGeom prst="rect">
            <a:avLst/>
          </a:prstGeom>
          <a:solidFill>
            <a:srgbClr val="cbd9d5"/>
          </a:solidFill>
          <a:ln w="10080">
            <a:solidFill>
              <a:srgbClr val="7ba79d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06000" indent="-3060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.U. ofrece ayuda a Tito, lo cual es visto por este como una oportunidad de resguardar el país de una invasión por parte de los Soviético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7" name="Picture 2" descr="http://www.nypost.com/rw/nypost/2011/09/11/news/web_photos/11.1n021.yugohouse2--300x300.jpg"/>
          <p:cNvPicPr/>
          <p:nvPr/>
        </p:nvPicPr>
        <p:blipFill>
          <a:blip r:embed="rId1"/>
          <a:stretch/>
        </p:blipFill>
        <p:spPr>
          <a:xfrm>
            <a:off x="5699160" y="3097080"/>
            <a:ext cx="3036960" cy="30416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http://www.gisxxi.org/wp-content/uploads/2011/09/estados-unidos-.jpg"/>
          <p:cNvPicPr/>
          <p:nvPr/>
        </p:nvPicPr>
        <p:blipFill>
          <a:blip r:embed="rId2"/>
          <a:stretch/>
        </p:blipFill>
        <p:spPr>
          <a:xfrm>
            <a:off x="1468440" y="36360"/>
            <a:ext cx="4859280" cy="36403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http://1.bp.blogspot.com/-9-LBWagXqT0/TXyzi7Xvx6I/AAAAAAAAAAM/25PzIjct04U/s1600/urss_vs_usa.jpg"/>
          <p:cNvPicPr/>
          <p:nvPr/>
        </p:nvPicPr>
        <p:blipFill>
          <a:blip r:embed="rId1"/>
          <a:stretch/>
        </p:blipFill>
        <p:spPr>
          <a:xfrm>
            <a:off x="4138560" y="225360"/>
            <a:ext cx="5883480" cy="5353200"/>
          </a:xfrm>
          <a:prstGeom prst="rect">
            <a:avLst/>
          </a:prstGeom>
          <a:ln w="0">
            <a:noFill/>
          </a:ln>
        </p:spPr>
      </p:pic>
      <p:sp>
        <p:nvSpPr>
          <p:cNvPr id="360" name="4 CuadroTexto"/>
          <p:cNvSpPr/>
          <p:nvPr/>
        </p:nvSpPr>
        <p:spPr>
          <a:xfrm>
            <a:off x="611280" y="1844640"/>
            <a:ext cx="3600360" cy="2288520"/>
          </a:xfrm>
          <a:prstGeom prst="rect">
            <a:avLst/>
          </a:prstGeom>
          <a:solidFill>
            <a:srgbClr val="968c8c"/>
          </a:solidFill>
          <a:ln w="19080">
            <a:solidFill>
              <a:srgbClr val="6d65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Ante la intervención de E.U., la URSS optó por no invadir, pero realizó varios intentos de asesinato contra Tit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5 CuadroTexto"/>
          <p:cNvSpPr/>
          <p:nvPr/>
        </p:nvSpPr>
        <p:spPr>
          <a:xfrm>
            <a:off x="1116000" y="4525920"/>
            <a:ext cx="4535640" cy="2654280"/>
          </a:xfrm>
          <a:prstGeom prst="rect">
            <a:avLst/>
          </a:prstGeom>
          <a:solidFill>
            <a:srgbClr val="a5ab81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ito evitó a la vez relacionarse mucho con Estados Unidos para así evitar que Yugoslavia cediera al capitalismo, mostrando así su pensamiento de no-alinead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23640" y="847440"/>
            <a:ext cx="5327640" cy="31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talin muere en 1953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Kruschev es invitado a Belgrado por Tito, a quien trata como un igual esperando así un nuevo acercamiento entre ambas nacion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3" name="Picture 2" descr="http://www.historiasiglo20.org/IMAG/images/27-1948-1955.gif"/>
          <p:cNvPicPr/>
          <p:nvPr/>
        </p:nvPicPr>
        <p:blipFill>
          <a:blip r:embed="rId1"/>
          <a:stretch/>
        </p:blipFill>
        <p:spPr>
          <a:xfrm>
            <a:off x="171360" y="3713040"/>
            <a:ext cx="4297320" cy="28958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http://www.venamimundo.com/GrandesPersonajes/Kruschev/Kruschev-04.jpg"/>
          <p:cNvPicPr/>
          <p:nvPr/>
        </p:nvPicPr>
        <p:blipFill>
          <a:blip r:embed="rId2"/>
          <a:stretch/>
        </p:blipFill>
        <p:spPr>
          <a:xfrm>
            <a:off x="5589720" y="1859040"/>
            <a:ext cx="3462120" cy="48592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http://www.corbisimages.com/images/Corbis-BE065520.jpg?size=67&amp;uid=655f512f-ef15-4a9f-af5b-5571a2af0650"/>
          <p:cNvPicPr/>
          <p:nvPr/>
        </p:nvPicPr>
        <p:blipFill>
          <a:blip r:embed="rId1"/>
          <a:stretch/>
        </p:blipFill>
        <p:spPr>
          <a:xfrm rot="20889600">
            <a:off x="565200" y="1952280"/>
            <a:ext cx="2879640" cy="4054320"/>
          </a:xfrm>
          <a:prstGeom prst="rect">
            <a:avLst/>
          </a:prstGeom>
          <a:ln w="0">
            <a:noFill/>
          </a:ln>
        </p:spPr>
      </p:pic>
      <p:sp>
        <p:nvSpPr>
          <p:cNvPr id="366" name="4 CuadroTexto"/>
          <p:cNvSpPr/>
          <p:nvPr/>
        </p:nvSpPr>
        <p:spPr>
          <a:xfrm>
            <a:off x="4211640" y="1773360"/>
            <a:ext cx="4248000" cy="4786560"/>
          </a:xfrm>
          <a:prstGeom prst="rect">
            <a:avLst/>
          </a:prstGeom>
          <a:solidFill>
            <a:srgbClr val="dd8047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Kruschev y George Malenkov buscan a Tito en 1975 buscando su aprobación para terminar con el levantamiento de Hungría, nos demuestran que Tito realmente logró causar un impacto político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l crecimiento del MN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4 Rectángulo redondeado"/>
          <p:cNvSpPr/>
          <p:nvPr/>
        </p:nvSpPr>
        <p:spPr>
          <a:xfrm>
            <a:off x="1476360" y="3500280"/>
            <a:ext cx="1366920" cy="720720"/>
          </a:xfrm>
          <a:prstGeom prst="roundRect">
            <a:avLst>
              <a:gd name="adj" fmla="val 16667"/>
            </a:avLst>
          </a:prstGeom>
          <a:solidFill>
            <a:srgbClr val="968c8c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INDIA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5 Rectángulo redondeado"/>
          <p:cNvSpPr/>
          <p:nvPr/>
        </p:nvSpPr>
        <p:spPr>
          <a:xfrm>
            <a:off x="1835280" y="4508640"/>
            <a:ext cx="1296720" cy="720720"/>
          </a:xfrm>
          <a:prstGeom prst="roundRect">
            <a:avLst>
              <a:gd name="adj" fmla="val 16667"/>
            </a:avLst>
          </a:prstGeom>
          <a:solidFill>
            <a:srgbClr val="968c8c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0" name="6 Rectángulo redondeado" descr=""/>
          <p:cNvPicPr/>
          <p:nvPr/>
        </p:nvPicPr>
        <p:blipFill>
          <a:blip r:embed="rId1"/>
          <a:stretch/>
        </p:blipFill>
        <p:spPr>
          <a:xfrm>
            <a:off x="4950000" y="878040"/>
            <a:ext cx="3816000" cy="3273120"/>
          </a:xfrm>
          <a:prstGeom prst="rect">
            <a:avLst/>
          </a:prstGeom>
          <a:ln w="0">
            <a:noFill/>
          </a:ln>
        </p:spPr>
      </p:pic>
      <p:sp>
        <p:nvSpPr>
          <p:cNvPr id="371" name="7 Flecha derecha"/>
          <p:cNvSpPr/>
          <p:nvPr/>
        </p:nvSpPr>
        <p:spPr>
          <a:xfrm rot="20121000">
            <a:off x="3438360" y="3160800"/>
            <a:ext cx="1368720" cy="1081080"/>
          </a:xfrm>
          <a:prstGeom prst="rightArrow">
            <a:avLst>
              <a:gd name="adj1" fmla="val 50000"/>
              <a:gd name="adj2" fmla="val 49974"/>
            </a:avLst>
          </a:prstGeom>
          <a:solidFill>
            <a:srgbClr val="dd8047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2" name="Picture 2" descr="http://us.123rf.com/400wm/400/400/kgtoh/kgtoh0812/kgtoh081200532/3972904-bandera-de-la-india-pa-s-s-mbolo-nacional-de-ilustraci-n.jpg"/>
          <p:cNvPicPr/>
          <p:nvPr/>
        </p:nvPicPr>
        <p:blipFill>
          <a:blip r:embed="rId2"/>
          <a:stretch/>
        </p:blipFill>
        <p:spPr>
          <a:xfrm>
            <a:off x="19080" y="201600"/>
            <a:ext cx="3992400" cy="29019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https://www.cia.gov/library/publications/the-world-factbook/graphics/flags/large/ch-lgflag.gif"/>
          <p:cNvPicPr/>
          <p:nvPr/>
        </p:nvPicPr>
        <p:blipFill>
          <a:blip r:embed="rId3"/>
          <a:stretch/>
        </p:blipFill>
        <p:spPr>
          <a:xfrm>
            <a:off x="4846680" y="3932280"/>
            <a:ext cx="4309920" cy="3133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52600"/>
            <a:ext cx="5122800" cy="56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ara India y para Jawaharlal Nehru, el MNA era una forma en que podían devolver el golpe a E.U. sin necesidad de involucrarse con la URS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 esto, la India ganaba influencia como líder mundial en potencia dentro del Movimiento de los No-Alineado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5" name="Picture 2" descr="http://www.ceeby.com/people/images/nehru.jpg"/>
          <p:cNvPicPr/>
          <p:nvPr/>
        </p:nvPicPr>
        <p:blipFill>
          <a:blip r:embed="rId1"/>
          <a:stretch/>
        </p:blipFill>
        <p:spPr>
          <a:xfrm>
            <a:off x="4857840" y="3108240"/>
            <a:ext cx="4017960" cy="35784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05:10:04Z</dcterms:created>
  <dc:creator>Lic. Eduardo</dc:creator>
  <dc:description/>
  <dc:language>en-US</dc:language>
  <cp:lastModifiedBy>Lic. Eduardo</cp:lastModifiedBy>
  <dcterms:modified xsi:type="dcterms:W3CDTF">2012-03-07T07:15:50Z</dcterms:modified>
  <cp:revision>13</cp:revision>
  <dc:subject/>
  <dc:title>Movimiento de los No Alineados</dc:title>
</cp:coreProperties>
</file>